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9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6636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8744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934200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776400" y="934200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8F62-9B9D-4791-91C2-B2CF19BAFE3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НГП – проектный институт, входящий в ассоциаци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ектных организац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любой проектный институт, наша организация имеет архи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ы наверняка видели что это такое: ряды стеллажей, горы папок. Найти что-либо можно, но это потребует определенных усилий и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се документы, прежде чем стать твердой копией, рождаются в электронном виде. Логично было бы и хранить их в этом ви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задача была успешно решена в нашей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анализе представленных на рынке систем были сделаны следующие выв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товые реш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 всегда могут быть применены, в связи со спецификой документооборота в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уществующие на рынке системы электронного документооборота имею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ущественную стоим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и стоимость приобретения и стоимость владе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о принято решение разработать собственную систему которая бы учитывала специфику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ая система была успешно созд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р другого запр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бы получить из архива документ – нужно просто щелкнуть на ссыл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же содержимое архива можно рассматривать по заказ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аз выбирается на центральной странице архив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бо непосредственно при просмотре какого либо зака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ежиме просмотра заказа есть возможность просмотра в виде переч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предусмотрено формирование перечня документов по заказу в виде стандартного фай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документа занимает от 30 сек до 3 мин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льзователь получает перечень документов по заказу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цесс сдачи документа в архив начинается с выбора заказа к которому относится данный докуме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 пользователю предлагается заполнить параметры докуме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чень параметров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ая система была разработа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инципу снизу вверх, т.е. Требования и пожелания по функциональности исходили от непосредственных будущих пользов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данном слайде Вы можете видеть внутренний сайт нашей орган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удобства пользователей, меню сайта, расположенное слева, можно отключить, что позволяет более эффективно использовать пространство экр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ьзователь просто выбирает необходимые данные из списков-справочников либо, вводит их непосредственно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же указывается локальный файл непосредственно содержащий докуме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примерно 5% пользователей такая схема ввода данных показалась слож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ециальн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них была разработана альтернативная форма сдачи доку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ая напоминает стандартный штамп чертеж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помещения документа в архив пользователь-владелец документа, может изменить данные документа в течении сут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любое время это может сделать администратор либо работники группы комплект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онный Архив позволяет получать различные отчеты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может быть статистика по заказам, статистика по документам сданным за день, неделю месяц, год и т.д.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данном случае – это статистика количества документов в заказ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вязи с особыми требованиями, предъявляемыми к безопасности информации, в случае необходимости можно посмотреть журнал доступа к данным архива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посмотреть когда, какие документы, по каким заказам получал любой пользователь сист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есь так же представлена полная информация о докумен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администраторы системы, а так же работники группы комплектации, могут менять отдельные параметры работы сист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том слайде вы видите, как, имеющий на это права пользователь, может изменить список форматов документов и их взаимное положение при сортиров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– как бы входная дверь арх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данной страницы начинаются любые действия в архи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бота архива базируется на классической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рехуровневой схеме клиент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ервер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качестве сервера БД используе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SQLserver2000 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качестве клиентов 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 качестве промежуточного слоя между БД и выступает ПО архива, работающее под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акая схема взаимодействия с клиентами позволила нам решить ряд присущих подобным системам проблем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Использование в качестве клиента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зволяет абстрагироваться от особенностей конкретного аппаратного и программного решения клиен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Сервер после сеанса связи с клиентом «забывает» о нем, что позволяет экономить ресурсы системы, но и повышает требования к пиковой производительности серве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Вся логика заботы архива сосредоточена в одном модул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. Снизить требования к пропускной способности каналов связ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зически архив работает на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нем сосредоточены функции сервера БД и интранет серве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компьютере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ыполняются вспомогательные операции, такие как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ормирование рисунков предварительного просмотра для чертежей архив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звлечение текстового содержимого документов архива, для последующего использования для полнотекстового поиска по содержимому докум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жедневное резервное копирование БД Архива и еженедельное резервное копирование всей систе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полнительные операции связанные с работой интране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айта организ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Электронный архив ТНГП успешно работает с 2001 года, в архиве хранится более 35 тыс док. Объем БД 30Г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жалуйста, ваши вопрос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диницей информации, с которой работает система, является докуме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ый документ имеет определенный набор характеристик, которые позволяют выполнять различные манипуляции над содержимым арх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ими характеристиками являются: Перечисление характерист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же такая структура представления информации позволила автоматизировать различные рутинные манипуляции, например такие как ручное формирование перечней документов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е характеристики позволяют так же автоматически получать различные сортировк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оизводить выборки необходимых документов из всего содержимого арх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документ хранится в оригинальном формат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dwg,dgn,doc,xls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же для каждого чертеж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AD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station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анится рисунок предварительного просмо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возможности полнотекстового поиска в содержимом документа, отдельно сохраняется так же текст докум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же может сохранятся копия документа в формат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передачи заказч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фейс системы позволяет удобно перемещается по архи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88840" y="4672080"/>
            <a:ext cx="4886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вайте более подробно остановимся на возможностях просмотра арх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том кадре вы можете видеть пример запроса к архиву. Параметры запро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162-8BAA-4CFD-BE08-12F67ED3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26A-F20B-4325-83F3-21A358BA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36E-F834-408B-9358-BA2D4454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DD7-6B5D-409E-9A8E-E49BCDD9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540F-AC85-4D20-9374-B796A410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A0A7-BAE3-4A2C-B5C6-A90D6E2E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0AEA-0A47-483C-91EF-4EE6E2F0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F1D8-7125-4D68-95DC-E272DAF2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5275-2469-4931-9A59-0E72D9C1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5E42-6B0A-4E54-8D99-C6D24341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59F1-7704-4396-B3E2-0BEF8219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8D3-77E8-499B-A92F-3B6F32C7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79FE-EF15-4C17-B159-AD43FD45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C75F-CBCE-490B-8EC3-30FD42A4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FF9A-0DEB-4880-B98C-324F73AE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83DA-C95D-4C41-A39A-A9B2606F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9D8D-318F-4839-BA3B-628F6B96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EB4-8346-40DE-9D19-07F44169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800-F445-4885-94BB-00F03426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EFB-9427-49A7-BD15-88441BEC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2C3-0233-49C2-B59F-0124FB63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D96-DC7A-439E-92C5-21C9C5EF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CF5-006F-4CD4-8BE7-C57AB8BD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DAE-D1A1-4856-9597-7752F330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E9F5-F12A-487B-9AC9-D9777047EA8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F909-3DF1-4F3F-98C8-700303C7BF2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ТНГП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240" y="2860560"/>
            <a:ext cx="70866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Электронный архи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 основе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-технолог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58276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смотр архив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5827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смотр архив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838080" y="932040"/>
          <a:ext cx="7848720" cy="58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32040"/>
                    <a:ext cx="7848720" cy="58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смотр архив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838080" y="952560"/>
            <a:ext cx="7848720" cy="58291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смотр архив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8080" y="944640"/>
            <a:ext cx="7848720" cy="5837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смотр архив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58374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смотр архив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8080" y="944640"/>
            <a:ext cx="7848720" cy="58370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смотр архив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8001000" cy="58802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смотр архив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58374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дача в архи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58374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дача в архи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Электронный архи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7716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58388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дача в архи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857160" y="914400"/>
          <a:ext cx="782964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914400"/>
                    <a:ext cx="782964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дача в архи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58374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дача в архи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5837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дача в архи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58374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240840"/>
            <a:ext cx="8163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66"/>
                </a:solidFill>
                <a:latin typeface="Verdana"/>
              </a:rPr>
              <a:t>Дополнительные возможности</a:t>
            </a:r>
            <a:endParaRPr b="0" lang="en-US" sz="3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58374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40840"/>
            <a:ext cx="8163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66"/>
                </a:solidFill>
                <a:latin typeface="Verdana"/>
              </a:rPr>
              <a:t>Дополнительные возможности</a:t>
            </a:r>
            <a:endParaRPr b="0" lang="en-US" sz="3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58374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40840"/>
            <a:ext cx="8163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66"/>
                </a:solidFill>
                <a:latin typeface="Verdana"/>
              </a:rPr>
              <a:t>Дополнительные возможности</a:t>
            </a:r>
            <a:endParaRPr b="0" lang="en-US" sz="3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58374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240840"/>
            <a:ext cx="8163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66"/>
                </a:solidFill>
                <a:latin typeface="Verdana"/>
              </a:rPr>
              <a:t>Дополнительные возможности</a:t>
            </a:r>
            <a:endParaRPr b="0" lang="en-US" sz="3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58374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240840"/>
            <a:ext cx="8163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66"/>
                </a:solidFill>
                <a:latin typeface="Verdana"/>
              </a:rPr>
              <a:t>Дополнительные возможности</a:t>
            </a:r>
            <a:endParaRPr b="0" lang="en-US" sz="3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5837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240840"/>
            <a:ext cx="8163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66"/>
                </a:solidFill>
                <a:latin typeface="Verdana"/>
              </a:rPr>
              <a:t>Дополнительные возможности</a:t>
            </a:r>
            <a:endParaRPr b="0" lang="en-US" sz="3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47800" y="923760"/>
            <a:ext cx="7848360" cy="58280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Электронный архи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40840"/>
            <a:ext cx="8163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66"/>
                </a:solidFill>
                <a:latin typeface="Verdana"/>
              </a:rPr>
              <a:t>Структурная схема</a:t>
            </a:r>
            <a:endParaRPr b="0" lang="en-US" sz="3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85800" y="1600200"/>
          <a:ext cx="8217000" cy="50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821700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47800" y="923760"/>
            <a:ext cx="7848360" cy="58280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Электронный архи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47800" y="923760"/>
            <a:ext cx="7848360" cy="58280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Электронный архи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57160" y="923760"/>
            <a:ext cx="7848720" cy="58280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Электронный архи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47800" y="923760"/>
            <a:ext cx="7848360" cy="58280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Электронный архи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847800" y="919080"/>
            <a:ext cx="7858080" cy="58341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Электронный архи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497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смотр архив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05:06:35Z</dcterms:created>
  <dc:creator>Stefurak</dc:creator>
  <dc:description/>
  <dc:language>en-US</dc:language>
  <cp:lastModifiedBy>Stefurak</cp:lastModifiedBy>
  <dcterms:modified xsi:type="dcterms:W3CDTF">2004-04-06T04:13:56Z</dcterms:modified>
  <cp:revision>50</cp:revision>
  <dc:subject/>
  <dc:title>ТНГП</dc:title>
</cp:coreProperties>
</file>